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7.jpeg" ContentType="image/jpeg"/>
  <Override PartName="/ppt/media/image6.jpeg" ContentType="image/jpeg"/>
  <Override PartName="/ppt/media/image5.jpeg" ContentType="image/jpeg"/>
  <Override PartName="/ppt/media/image22.jpeg" ContentType="image/jpeg"/>
  <Override PartName="/ppt/media/image17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4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DF25F-C39B-47C1-AD50-E05304CDD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18AA-7AB2-44DA-ADA6-B9D344B58C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E84E4-13D6-4AF2-B28A-8439C61CE0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8C1D5-E6DB-4D46-9CD0-360C728842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137D7E-6849-4FBD-8460-657A334F0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A57218-7F21-4542-B316-EAE82838C7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6C2154-4D20-4447-A26E-C9ECA545E3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AD24CB-3B98-4009-B619-30F40B4F94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6422B-63EC-4BD7-AD66-642DF62F80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D14E86-F798-4D80-810A-AF8FFC49E1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E9643-9684-492D-8DD0-3F0365E368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B018-60A1-4DAF-BACF-599F58F1D7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2632AB-9243-40E5-9A22-D1E37D232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CB388D-4C9F-4D1E-BE91-A44257AD12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08C474-1487-498B-A221-27FA66A6B3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9D584C-487D-4E2B-81F6-8DC25F00A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5C725A-5961-44EF-A352-25D91AF24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D2F3A-A43F-4D81-A1E3-84C051B2A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371D7-A507-4720-AE82-F8BF6E716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F34DF-8533-4889-8DFD-2C3772CE8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C24B3-0627-4EE5-ADCF-86D3E25B3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A8AED-484E-4F3E-B1B3-61C84B56BE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168F-26C7-44EB-B0DE-936588AA60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642C9-0448-46EF-BE5A-EE2EDA916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Freeform 3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>
                <a:gd name="textAreaLeft" fmla="*/ 0 w 749160"/>
                <a:gd name="textAreaRight" fmla="*/ 749520 w 749160"/>
                <a:gd name="textAreaTop" fmla="*/ 0 h 1272960"/>
                <a:gd name="textAreaBottom" fmla="*/ 1273320 h 1272960"/>
              </a:gdLst>
              <a:ahLst/>
              <a:rect l="textAreaLeft" t="textAreaTop" r="textAreaRight" b="textAreaBottom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33cc33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2" name="Group 4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Freeform 5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>
                  <a:gd name="textAreaLeft" fmla="*/ -360 w 227160"/>
                  <a:gd name="textAreaRight" fmla="*/ 227160 w 227160"/>
                  <a:gd name="textAreaTop" fmla="*/ 0 h 264240"/>
                  <a:gd name="textAreaBottom" fmla="*/ 264600 h 2642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4" name="Freeform 6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>
                  <a:gd name="textAreaLeft" fmla="*/ -360 w 388440"/>
                  <a:gd name="textAreaRight" fmla="*/ 388440 w 388440"/>
                  <a:gd name="textAreaTop" fmla="*/ 0 h 219600"/>
                  <a:gd name="textAreaBottom" fmla="*/ 219960 h 2196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5" name="Freeform 7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>
                  <a:gd name="textAreaLeft" fmla="*/ 360 w 406080"/>
                  <a:gd name="textAreaRight" fmla="*/ 406800 w 406080"/>
                  <a:gd name="textAreaTop" fmla="*/ 0 h 111600"/>
                  <a:gd name="textAreaBottom" fmla="*/ 111960 h 1116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6" name="Freeform 8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>
                <a:gd name="textAreaLeft" fmla="*/ 0 w 1127160"/>
                <a:gd name="textAreaRight" fmla="*/ 1127520 w 1127160"/>
                <a:gd name="textAreaTop" fmla="*/ 0 h 1219320"/>
                <a:gd name="textAreaBottom" fmla="*/ 1219680 h 1219320"/>
              </a:gdLst>
              <a:ahLst/>
              <a:rect l="textAreaLeft" t="textAreaTop" r="textAreaRight" b="textAreaBottom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0080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7" name="Group 9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Freeform 10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>
                  <a:gd name="textAreaLeft" fmla="*/ -360 w 975240"/>
                  <a:gd name="textAreaRight" fmla="*/ 975240 w 975240"/>
                  <a:gd name="textAreaTop" fmla="*/ 0 h 1005120"/>
                  <a:gd name="textAreaBottom" fmla="*/ 1005480 h 1005120"/>
                </a:gdLst>
                <a:ahLst/>
                <a:rect l="textAreaLeft" t="textAreaTop" r="textAreaRight" b="textAreaBottom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>
                  <a:gd name="textAreaLeft" fmla="*/ -360 w 816120"/>
                  <a:gd name="textAreaRight" fmla="*/ 816120 w 816120"/>
                  <a:gd name="textAreaTop" fmla="*/ 0 h 1021680"/>
                  <a:gd name="textAreaBottom" fmla="*/ 1022040 h 1021680"/>
                </a:gdLst>
                <a:ahLst/>
                <a:rect l="textAreaLeft" t="textAreaTop" r="textAreaRight" b="textAreaBottom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>
                  <a:gd name="textAreaLeft" fmla="*/ 360 w 289440"/>
                  <a:gd name="textAreaRight" fmla="*/ 290160 w 289440"/>
                  <a:gd name="textAreaTop" fmla="*/ 0 h 516960"/>
                  <a:gd name="textAreaBottom" fmla="*/ 517320 h 516960"/>
                </a:gdLst>
                <a:ahLst/>
                <a:rect l="textAreaLeft" t="textAreaTop" r="textAreaRight" b="textAreaBottom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>
                  <a:gd name="textAreaLeft" fmla="*/ 360 w 264960"/>
                  <a:gd name="textAreaRight" fmla="*/ 265680 w 264960"/>
                  <a:gd name="textAreaTop" fmla="*/ 0 h 308160"/>
                  <a:gd name="textAreaBottom" fmla="*/ 308520 h 308160"/>
                </a:gdLst>
                <a:ahLst/>
                <a:rect l="textAreaLeft" t="textAreaTop" r="textAreaRight" b="textAreaBottom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>
                  <a:gd name="textAreaLeft" fmla="*/ 360 w 65520"/>
                  <a:gd name="textAreaRight" fmla="*/ 66240 w 65520"/>
                  <a:gd name="textAreaTop" fmla="*/ 0 h 182520"/>
                  <a:gd name="textAreaBottom" fmla="*/ 182880 h 182520"/>
                </a:gdLst>
                <a:ahLst/>
                <a:rect l="textAreaLeft" t="textAreaTop" r="textAreaRight" b="textAreaBottom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grpSp>
            <p:nvGrpSpPr>
              <p:cNvPr id="13" name="Group 15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Freeform 16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>
                    <a:gd name="textAreaLeft" fmla="*/ 360 w 473760"/>
                    <a:gd name="textAreaRight" fmla="*/ 474480 w 473760"/>
                    <a:gd name="textAreaTop" fmla="*/ 0 h 1215000"/>
                    <a:gd name="textAreaBottom" fmla="*/ 1215360 h 1215000"/>
                  </a:gdLst>
                  <a:ahLst/>
                  <a:rect l="textAreaLeft" t="textAreaTop" r="textAreaRight" b="textAreaBottom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5" name="Freeform 17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>
                    <a:gd name="textAreaLeft" fmla="*/ -360 w 109800"/>
                    <a:gd name="textAreaRight" fmla="*/ 109800 w 109800"/>
                    <a:gd name="textAreaTop" fmla="*/ 0 h 498960"/>
                    <a:gd name="textAreaBottom" fmla="*/ 499320 h 498960"/>
                  </a:gdLst>
                  <a:ahLst/>
                  <a:rect l="textAreaLeft" t="textAreaTop" r="textAreaRight" b="textAreaBottom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  <p:sp>
              <p:nvSpPr>
                <p:cNvPr id="16" name="Freeform 18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>
                    <a:gd name="textAreaLeft" fmla="*/ -360 w 199080"/>
                    <a:gd name="textAreaRight" fmla="*/ 199080 w 199080"/>
                    <a:gd name="textAreaTop" fmla="*/ 0 h 83880"/>
                    <a:gd name="textAreaBottom" fmla="*/ 84240 h 83880"/>
                  </a:gdLst>
                  <a:ahLst/>
                  <a:rect l="textAreaLeft" t="textAreaTop" r="textAreaRight" b="textAreaBottom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008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440" bIns="37440" anchor="t">
                  <a:noAutofit/>
                </a:bodyPr>
                <a:p>
                  <a:endParaRPr b="0" lang="en-US" sz="1800" spc="-1" strike="noStrike">
                    <a:solidFill>
                      <a:srgbClr val="ffffff"/>
                    </a:solidFill>
                    <a:latin typeface="Verdana"/>
                  </a:endParaRPr>
                </a:p>
              </p:txBody>
            </p:sp>
          </p:grpSp>
        </p:grpSp>
        <p:grpSp>
          <p:nvGrpSpPr>
            <p:cNvPr id="17" name="Group 19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Freeform 20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>
                  <a:gd name="textAreaLeft" fmla="*/ 0 w 196560"/>
                  <a:gd name="textAreaRight" fmla="*/ 196920 w 196560"/>
                  <a:gd name="textAreaTop" fmla="*/ 0 h 252360"/>
                  <a:gd name="textAreaBottom" fmla="*/ 252720 h 25236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9" name="Freeform 21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>
                  <a:gd name="textAreaLeft" fmla="*/ 0 w 336600"/>
                  <a:gd name="textAreaRight" fmla="*/ 336960 w 336600"/>
                  <a:gd name="textAreaTop" fmla="*/ 0 h 209880"/>
                  <a:gd name="textAreaBottom" fmla="*/ 210240 h 20988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0" name="Freeform 22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>
                  <a:gd name="textAreaLeft" fmla="*/ 0 w 352080"/>
                  <a:gd name="textAreaRight" fmla="*/ 352440 w 352080"/>
                  <a:gd name="textAreaTop" fmla="*/ 0 h 106560"/>
                  <a:gd name="textAreaBottom" fmla="*/ 106920 h 106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1" name="Group 23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Freeform 24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>
                  <a:gd name="textAreaLeft" fmla="*/ 0 w 206640"/>
                  <a:gd name="textAreaRight" fmla="*/ 207000 w 206640"/>
                  <a:gd name="textAreaTop" fmla="*/ 0 h 297720"/>
                  <a:gd name="textAreaBottom" fmla="*/ 298080 h 2977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3" name="Freeform 25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>
                  <a:gd name="textAreaLeft" fmla="*/ 0 w 353880"/>
                  <a:gd name="textAreaRight" fmla="*/ 354240 w 353880"/>
                  <a:gd name="textAreaTop" fmla="*/ 0 h 247320"/>
                  <a:gd name="textAreaBottom" fmla="*/ 247680 h 2473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>
                  <a:gd name="textAreaLeft" fmla="*/ 0 w 370080"/>
                  <a:gd name="textAreaRight" fmla="*/ 370440 w 370080"/>
                  <a:gd name="textAreaTop" fmla="*/ 0 h 126000"/>
                  <a:gd name="textAreaBottom" fmla="*/ 126360 h 12600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25" name="Group 27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Freeform 28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>
                  <a:gd name="textAreaLeft" fmla="*/ 0 w 173160"/>
                  <a:gd name="textAreaRight" fmla="*/ 173520 w 173160"/>
                  <a:gd name="textAreaTop" fmla="*/ 0 h 218520"/>
                  <a:gd name="textAreaBottom" fmla="*/ 218880 h 21852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>
                  <a:gd name="textAreaLeft" fmla="*/ 0 w 296280"/>
                  <a:gd name="textAreaRight" fmla="*/ 296640 w 296280"/>
                  <a:gd name="textAreaTop" fmla="*/ 0 h 181440"/>
                  <a:gd name="textAreaBottom" fmla="*/ 181800 h 1814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>
                  <a:gd name="textAreaLeft" fmla="*/ 0 w 309960"/>
                  <a:gd name="textAreaRight" fmla="*/ 310320 w 309960"/>
                  <a:gd name="textAreaTop" fmla="*/ 0 h 92160"/>
                  <a:gd name="textAreaBottom" fmla="*/ 92520 h 921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29" name="Freeform 31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>
                <a:gd name="textAreaLeft" fmla="*/ 0 w 1109520"/>
                <a:gd name="textAreaRight" fmla="*/ 1109880 w 1109520"/>
                <a:gd name="textAreaTop" fmla="*/ 0 h 1199880"/>
                <a:gd name="textAreaBottom" fmla="*/ 1200240 h 1199880"/>
              </a:gdLst>
              <a:ahLst/>
              <a:rect l="textAreaLeft" t="textAreaTop" r="textAreaRight" b="textAreaBottom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336600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0" name="Freeform 32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>
                <a:gd name="textAreaLeft" fmla="*/ 0 w 209520"/>
                <a:gd name="textAreaRight" fmla="*/ 209880 w 209520"/>
                <a:gd name="textAreaTop" fmla="*/ 0 h 264960"/>
                <a:gd name="textAreaBottom" fmla="*/ 265320 h 2649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1" name="Freeform 33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>
                <a:gd name="textAreaLeft" fmla="*/ 0 w 104760"/>
                <a:gd name="textAreaRight" fmla="*/ 105120 w 104760"/>
                <a:gd name="textAreaTop" fmla="*/ 0 h 68040"/>
                <a:gd name="textAreaBottom" fmla="*/ 68400 h 6804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2" name="Freeform 34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>
                <a:gd name="textAreaLeft" fmla="*/ 0 w 187200"/>
                <a:gd name="textAreaRight" fmla="*/ 187560 w 187200"/>
                <a:gd name="textAreaTop" fmla="*/ 0 h 331920"/>
                <a:gd name="textAreaBottom" fmla="*/ 332280 h 331920"/>
              </a:gdLst>
              <a:ahLst/>
              <a:rect l="textAreaLeft" t="textAreaTop" r="textAreaRight" b="textAreaBottom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3" name="Freeform 35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>
                <a:gd name="textAreaLeft" fmla="*/ 0 w 206280"/>
                <a:gd name="textAreaRight" fmla="*/ 206640 w 206280"/>
                <a:gd name="textAreaTop" fmla="*/ 0 h 203040"/>
                <a:gd name="textAreaBottom" fmla="*/ 203400 h 203040"/>
              </a:gdLst>
              <a:ahLst/>
              <a:rect l="textAreaLeft" t="textAreaTop" r="textAreaRight" b="textAreaBottom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4" name="Freeform 36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>
                <a:gd name="textAreaLeft" fmla="*/ 0 w 74520"/>
                <a:gd name="textAreaRight" fmla="*/ 74880 w 74520"/>
                <a:gd name="textAreaTop" fmla="*/ 0 h 136440"/>
                <a:gd name="textAreaBottom" fmla="*/ 136800 h 136440"/>
              </a:gdLst>
              <a:ahLst/>
              <a:rect l="textAreaLeft" t="textAreaTop" r="textAreaRight" b="textAreaBottom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5" name="Freeform 37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>
                <a:gd name="textAreaLeft" fmla="*/ 0 w 789120"/>
                <a:gd name="textAreaRight" fmla="*/ 789480 w 789120"/>
                <a:gd name="textAreaTop" fmla="*/ 0 h 1174680"/>
                <a:gd name="textAreaBottom" fmla="*/ 1175040 h 1174680"/>
              </a:gdLst>
              <a:ahLst/>
              <a:rect l="textAreaLeft" t="textAreaTop" r="textAreaRight" b="textAreaBottom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6" name="Freeform 38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>
                <a:gd name="textAreaLeft" fmla="*/ 0 w 546120"/>
                <a:gd name="textAreaRight" fmla="*/ 546480 w 546120"/>
                <a:gd name="textAreaTop" fmla="*/ 0 h 388800"/>
                <a:gd name="textAreaBottom" fmla="*/ 389160 h 3888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7" name="Freeform 39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>
                <a:gd name="textAreaLeft" fmla="*/ 0 w 265320"/>
                <a:gd name="textAreaRight" fmla="*/ 265680 w 265320"/>
                <a:gd name="textAreaTop" fmla="*/ 0 h 182520"/>
                <a:gd name="textAreaBottom" fmla="*/ 182880 h 18252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8" name="Freeform 40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>
                <a:gd name="textAreaLeft" fmla="*/ 0 w 233280"/>
                <a:gd name="textAreaRight" fmla="*/ 233640 w 233280"/>
                <a:gd name="textAreaTop" fmla="*/ 0 h 254160"/>
                <a:gd name="textAreaBottom" fmla="*/ 254520 h 254160"/>
              </a:gdLst>
              <a:ahLst/>
              <a:rect l="textAreaLeft" t="textAreaTop" r="textAreaRight" b="textAreaBottom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39" name="Freeform 41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>
                <a:gd name="textAreaLeft" fmla="*/ 0 w 98280"/>
                <a:gd name="textAreaRight" fmla="*/ 98640 w 98280"/>
                <a:gd name="textAreaTop" fmla="*/ 0 h 154080"/>
                <a:gd name="textAreaBottom" fmla="*/ 154440 h 154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0" name="Freeform 42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>
                <a:gd name="textAreaLeft" fmla="*/ 0 w 114120"/>
                <a:gd name="textAreaRight" fmla="*/ 114480 w 114120"/>
                <a:gd name="textAreaTop" fmla="*/ 0 h 65160"/>
                <a:gd name="textAreaBottom" fmla="*/ 65520 h 65160"/>
              </a:gdLst>
              <a:ahLst/>
              <a:rect l="textAreaLeft" t="textAreaTop" r="textAreaRight" b="textAreaBottom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1" name="Freeform 43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>
                <a:gd name="textAreaLeft" fmla="*/ 0 w 571680"/>
                <a:gd name="textAreaRight" fmla="*/ 572040 w 571680"/>
                <a:gd name="textAreaTop" fmla="*/ 0 h 1031760"/>
                <a:gd name="textAreaBottom" fmla="*/ 1032120 h 1031760"/>
              </a:gdLst>
              <a:ahLst/>
              <a:rect l="textAreaLeft" t="textAreaTop" r="textAreaRight" b="textAreaBottom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42" name="Freeform 44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>
                <a:gd name="textAreaLeft" fmla="*/ 0 w 1276200"/>
                <a:gd name="textAreaRight" fmla="*/ 1276560 w 1276200"/>
                <a:gd name="textAreaTop" fmla="*/ 0 h 1089000"/>
                <a:gd name="textAreaBottom" fmla="*/ 1089000 h 1089000"/>
              </a:gdLst>
              <a:ahLst/>
              <a:rect l="textAreaLeft" t="textAreaTop" r="textAreaRight" b="textAreaBottom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6197D0-01B3-4B73-AE3A-EC41533FD839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Group 2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Group 3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Freeform 4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>
                  <a:gd name="textAreaLeft" fmla="*/ 0 w 2116080"/>
                  <a:gd name="textAreaRight" fmla="*/ 2116440 w 2116080"/>
                  <a:gd name="textAreaTop" fmla="*/ 360 h 2357280"/>
                  <a:gd name="textAreaBottom" fmla="*/ 2358000 h 2357280"/>
                </a:gdLst>
                <a:ahLst/>
                <a:rect l="textAreaLeft" t="textAreaTop" r="textAreaRight" b="textAreaBottom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7" name="Freeform 5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>
                  <a:gd name="textAreaLeft" fmla="*/ 0 w 906480"/>
                  <a:gd name="textAreaRight" fmla="*/ 906840 w 906480"/>
                  <a:gd name="textAreaTop" fmla="*/ -360 h 843480"/>
                  <a:gd name="textAreaBottom" fmla="*/ 843480 h 843480"/>
                </a:gdLst>
                <a:ahLst/>
                <a:rect l="textAreaLeft" t="textAreaTop" r="textAreaRight" b="textAreaBottom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8" name="Freeform 6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>
                  <a:gd name="textAreaLeft" fmla="*/ 0 w 439560"/>
                  <a:gd name="textAreaRight" fmla="*/ 439920 w 439560"/>
                  <a:gd name="textAreaTop" fmla="*/ 360 h 395280"/>
                  <a:gd name="textAreaBottom" fmla="*/ 396000 h 395280"/>
                </a:gdLst>
                <a:ahLst/>
                <a:rect l="textAreaLeft" t="textAreaTop" r="textAreaRight" b="textAreaBottom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89" name="Freeform 7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>
                  <a:gd name="textAreaLeft" fmla="*/ 0 w 389160"/>
                  <a:gd name="textAreaRight" fmla="*/ 389520 w 389160"/>
                  <a:gd name="textAreaTop" fmla="*/ 360 h 550800"/>
                  <a:gd name="textAreaBottom" fmla="*/ 551520 h 550800"/>
                </a:gdLst>
                <a:ahLst/>
                <a:rect l="textAreaLeft" t="textAreaTop" r="textAreaRight" b="textAreaBottom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0" name="Freeform 8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>
                  <a:gd name="textAreaLeft" fmla="*/ 0 w 163800"/>
                  <a:gd name="textAreaRight" fmla="*/ 164160 w 163800"/>
                  <a:gd name="textAreaTop" fmla="*/ 360 h 331920"/>
                  <a:gd name="textAreaBottom" fmla="*/ 332640 h 331920"/>
                </a:gdLst>
                <a:ahLst/>
                <a:rect l="textAreaLeft" t="textAreaTop" r="textAreaRight" b="textAreaBottom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1" name="Freeform 9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>
                  <a:gd name="textAreaLeft" fmla="*/ 0 w 190440"/>
                  <a:gd name="textAreaRight" fmla="*/ 190800 w 190440"/>
                  <a:gd name="textAreaTop" fmla="*/ -360 h 142920"/>
                  <a:gd name="textAreaBottom" fmla="*/ 142920 h 142920"/>
                </a:gdLst>
                <a:ahLst/>
                <a:rect l="textAreaLeft" t="textAreaTop" r="textAreaRight" b="textAreaBottom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92" name="Freeform 10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>
                  <a:gd name="textAreaLeft" fmla="*/ 0 w 523800"/>
                  <a:gd name="textAreaRight" fmla="*/ 524160 w 523800"/>
                  <a:gd name="textAreaTop" fmla="*/ 360 h 3268800"/>
                  <a:gd name="textAreaBottom" fmla="*/ 3269520 h 3268800"/>
                </a:gdLst>
                <a:ahLst/>
                <a:rect l="textAreaLeft" t="textAreaTop" r="textAreaRight" b="textAreaBottom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8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93" name="Freeform 11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>
                <a:gd name="textAreaLeft" fmla="*/ 360 w 512640"/>
                <a:gd name="textAreaRight" fmla="*/ 513360 w 512640"/>
                <a:gd name="textAreaTop" fmla="*/ 0 h 1030680"/>
                <a:gd name="textAreaBottom" fmla="*/ 1031040 h 1030680"/>
              </a:gdLst>
              <a:ahLst/>
              <a:rect l="textAreaLeft" t="textAreaTop" r="textAreaRight" b="textAreaBottom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4" name="Freeform 12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>
                <a:gd name="textAreaLeft" fmla="*/ 0 w 1998720"/>
                <a:gd name="textAreaRight" fmla="*/ 1999080 w 1998720"/>
                <a:gd name="textAreaTop" fmla="*/ 0 h 2432160"/>
                <a:gd name="textAreaBottom" fmla="*/ 2432520 h 2432160"/>
              </a:gdLst>
              <a:ahLst/>
              <a:rect l="textAreaLeft" t="textAreaTop" r="textAreaRight" b="textAreaBottom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5" name="Freeform 13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>
                <a:gd name="textAreaLeft" fmla="*/ 0 w 1271520"/>
                <a:gd name="textAreaRight" fmla="*/ 1271880 w 1271520"/>
                <a:gd name="textAreaTop" fmla="*/ 0 h 728640"/>
                <a:gd name="textAreaBottom" fmla="*/ 729000 h 728640"/>
              </a:gdLst>
              <a:ahLst/>
              <a:rect l="textAreaLeft" t="textAreaTop" r="textAreaRight" b="textAreaBottom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6" name="Freeform 14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>
                <a:gd name="textAreaLeft" fmla="*/ -360 w 561960"/>
                <a:gd name="textAreaRight" fmla="*/ 561960 w 561960"/>
                <a:gd name="textAreaTop" fmla="*/ 0 h 736560"/>
                <a:gd name="textAreaBottom" fmla="*/ 736920 h 736560"/>
              </a:gdLst>
              <a:ahLst/>
              <a:rect l="textAreaLeft" t="textAreaTop" r="textAreaRight" b="textAreaBottom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7" name="Freeform 15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>
                <a:gd name="textAreaLeft" fmla="*/ 360 w 138240"/>
                <a:gd name="textAreaRight" fmla="*/ 138960 w 138240"/>
                <a:gd name="textAreaTop" fmla="*/ 0 h 434880"/>
                <a:gd name="textAreaBottom" fmla="*/ 435240 h 434880"/>
              </a:gdLst>
              <a:ahLst/>
              <a:rect l="textAreaLeft" t="textAreaTop" r="textAreaRight" b="textAreaBottom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98" name="Freeform 16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>
                <a:gd name="textAreaLeft" fmla="*/ 0 w 1758960"/>
                <a:gd name="textAreaRight" fmla="*/ 1759320 w 1758960"/>
                <a:gd name="textAreaTop" fmla="*/ 0 h 1662120"/>
                <a:gd name="textAreaBottom" fmla="*/ 1662480 h 1662120"/>
              </a:gdLst>
              <a:ahLst/>
              <a:rect l="textAreaLeft" t="textAreaTop" r="textAreaRight" b="textAreaBottom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grpSp>
          <p:nvGrpSpPr>
            <p:cNvPr id="99" name="Group 17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Freeform 18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>
                  <a:gd name="textAreaLeft" fmla="*/ 0 w 285840"/>
                  <a:gd name="textAreaRight" fmla="*/ 286200 w 285840"/>
                  <a:gd name="textAreaTop" fmla="*/ 0 h 379440"/>
                  <a:gd name="textAreaBottom" fmla="*/ 379800 h 379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1" name="Freeform 19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>
                  <a:gd name="textAreaLeft" fmla="*/ 0 w 488880"/>
                  <a:gd name="textAreaRight" fmla="*/ 489240 w 488880"/>
                  <a:gd name="textAreaTop" fmla="*/ 0 h 315000"/>
                  <a:gd name="textAreaBottom" fmla="*/ 315360 h 3150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2" name="Freeform 20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>
                  <a:gd name="textAreaLeft" fmla="*/ 0 w 511200"/>
                  <a:gd name="textAreaRight" fmla="*/ 511560 w 511200"/>
                  <a:gd name="textAreaTop" fmla="*/ 0 h 160560"/>
                  <a:gd name="textAreaBottom" fmla="*/ 160920 h 1605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3" name="Group 21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Freeform 22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>
                  <a:gd name="textAreaLeft" fmla="*/ 0 w 178560"/>
                  <a:gd name="textAreaRight" fmla="*/ 178920 w 178560"/>
                  <a:gd name="textAreaTop" fmla="*/ 0 h 361440"/>
                  <a:gd name="textAreaBottom" fmla="*/ 361800 h 3614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5" name="Freeform 23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>
                  <a:gd name="textAreaLeft" fmla="*/ 0 w 306000"/>
                  <a:gd name="textAreaRight" fmla="*/ 306360 w 306000"/>
                  <a:gd name="textAreaTop" fmla="*/ 0 h 300240"/>
                  <a:gd name="textAreaBottom" fmla="*/ 300600 h 30024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6" name="Freeform 24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>
                  <a:gd name="textAreaLeft" fmla="*/ 0 w 320040"/>
                  <a:gd name="textAreaRight" fmla="*/ 320400 w 320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07" name="Group 25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Freeform 26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>
                  <a:gd name="textAreaLeft" fmla="*/ 0 w 251640"/>
                  <a:gd name="textAreaRight" fmla="*/ 252000 w 251640"/>
                  <a:gd name="textAreaTop" fmla="*/ 0 h 298800"/>
                  <a:gd name="textAreaBottom" fmla="*/ 299160 h 2988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09" name="Freeform 27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>
                  <a:gd name="textAreaLeft" fmla="*/ 0 w 430560"/>
                  <a:gd name="textAreaRight" fmla="*/ 430920 w 430560"/>
                  <a:gd name="textAreaTop" fmla="*/ 0 h 248400"/>
                  <a:gd name="textAreaBottom" fmla="*/ 248760 h 24840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0" name="Freeform 28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>
                  <a:gd name="textAreaLeft" fmla="*/ 0 w 450000"/>
                  <a:gd name="textAreaRight" fmla="*/ 450360 w 450000"/>
                  <a:gd name="textAreaTop" fmla="*/ 0 h 126360"/>
                  <a:gd name="textAreaBottom" fmla="*/ 126720 h 12636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1" name="Group 29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Freeform 30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1000"/>
                  <a:gd name="textAreaBottom" fmla="*/ 531360 h 53100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3" name="Freeform 31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720"/>
                  <a:gd name="textAreaBottom" fmla="*/ 442080 h 44172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4" name="Freeform 32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grpSp>
          <p:nvGrpSpPr>
            <p:cNvPr id="115" name="Group 33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Freeform 34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>
                  <a:gd name="textAreaLeft" fmla="*/ -360 w 356040"/>
                  <a:gd name="textAreaRight" fmla="*/ 356040 w 356040"/>
                  <a:gd name="textAreaTop" fmla="*/ 0 h 530640"/>
                  <a:gd name="textAreaBottom" fmla="*/ 531000 h 530640"/>
                </a:gdLst>
                <a:ahLst/>
                <a:rect l="textAreaLeft" t="textAreaTop" r="textAreaRight" b="textAreaBottom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7" name="Freeform 35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>
                  <a:gd name="textAreaLeft" fmla="*/ 360 w 609120"/>
                  <a:gd name="textAreaRight" fmla="*/ 609840 w 609120"/>
                  <a:gd name="textAreaTop" fmla="*/ 0 h 441360"/>
                  <a:gd name="textAreaBottom" fmla="*/ 441720 h 441360"/>
                </a:gdLst>
                <a:ahLst/>
                <a:rect l="textAreaLeft" t="textAreaTop" r="textAreaRight" b="textAreaBottom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  <p:sp>
            <p:nvSpPr>
              <p:cNvPr id="118" name="Freeform 36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>
                  <a:gd name="textAreaLeft" fmla="*/ -360 w 636840"/>
                  <a:gd name="textAreaRight" fmla="*/ 636840 w 636840"/>
                  <a:gd name="textAreaTop" fmla="*/ 0 h 224640"/>
                  <a:gd name="textAreaBottom" fmla="*/ 225000 h 224640"/>
                </a:gdLst>
                <a:ahLst/>
                <a:rect l="textAreaLeft" t="textAreaTop" r="textAreaRight" b="textAreaBottom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Verdana"/>
                </a:endParaRPr>
              </a:p>
            </p:txBody>
          </p:sp>
        </p:grpSp>
        <p:sp>
          <p:nvSpPr>
            <p:cNvPr id="119" name="Freeform 37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>
                <a:gd name="textAreaLeft" fmla="*/ 0 w 1368360"/>
                <a:gd name="textAreaRight" fmla="*/ 1368720 w 1368360"/>
                <a:gd name="textAreaTop" fmla="*/ 0 h 1406520"/>
                <a:gd name="textAreaBottom" fmla="*/ 1406520 h 1406520"/>
              </a:gdLst>
              <a:ahLst/>
              <a:rect l="textAreaLeft" t="textAreaTop" r="textAreaRight" b="textAreaBottom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0" name="Freeform 38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>
                <a:gd name="textAreaLeft" fmla="*/ 0 w 1081080"/>
                <a:gd name="textAreaRight" fmla="*/ 1081440 w 1081080"/>
                <a:gd name="textAreaTop" fmla="*/ -360 h 941400"/>
                <a:gd name="textAreaBottom" fmla="*/ 941400 h 941400"/>
              </a:gdLst>
              <a:ahLst/>
              <a:rect l="textAreaLeft" t="textAreaTop" r="textAreaRight" b="textAreaBottom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1" name="Freeform 39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>
                <a:gd name="textAreaLeft" fmla="*/ 0 w 523800"/>
                <a:gd name="textAreaRight" fmla="*/ 524160 w 523800"/>
                <a:gd name="textAreaTop" fmla="*/ -360 h 441000"/>
                <a:gd name="textAreaBottom" fmla="*/ 441000 h 441000"/>
              </a:gdLst>
              <a:ahLst/>
              <a:rect l="textAreaLeft" t="textAreaTop" r="textAreaRight" b="textAreaBottom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2" name="Freeform 40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>
                <a:gd name="textAreaLeft" fmla="*/ 0 w 195480"/>
                <a:gd name="textAreaRight" fmla="*/ 195840 w 195480"/>
                <a:gd name="textAreaTop" fmla="*/ 360 h 370080"/>
                <a:gd name="textAreaBottom" fmla="*/ 370800 h 370080"/>
              </a:gdLst>
              <a:ahLst/>
              <a:rect l="textAreaLeft" t="textAreaTop" r="textAreaRight" b="textAreaBottom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3" name="Freeform 41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>
                <a:gd name="textAreaLeft" fmla="*/ 0 w 196920"/>
                <a:gd name="textAreaRight" fmla="*/ 197280 w 196920"/>
                <a:gd name="textAreaTop" fmla="*/ 0 h 192240"/>
                <a:gd name="textAreaBottom" fmla="*/ 192600 h 192240"/>
              </a:gdLst>
              <a:ahLst/>
              <a:rect l="textAreaLeft" t="textAreaTop" r="textAreaRight" b="textAreaBottom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4" name="Freeform 42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>
                <a:gd name="textAreaLeft" fmla="*/ 0 w 623880"/>
                <a:gd name="textAreaRight" fmla="*/ 624240 w 623880"/>
                <a:gd name="textAreaTop" fmla="*/ -360 h 3651480"/>
                <a:gd name="textAreaBottom" fmla="*/ 3651480 h 3651480"/>
              </a:gdLst>
              <a:ahLst/>
              <a:rect l="textAreaLeft" t="textAreaTop" r="textAreaRight" b="textAreaBottom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  <p:sp>
          <p:nvSpPr>
            <p:cNvPr id="125" name="Freeform 43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>
                <a:gd name="textAreaLeft" fmla="*/ 0 w 57240"/>
                <a:gd name="textAreaRight" fmla="*/ 57600 w 57240"/>
                <a:gd name="textAreaTop" fmla="*/ 0 h 209520"/>
                <a:gd name="textAreaBottom" fmla="*/ 209880 h 209520"/>
              </a:gdLst>
              <a:ahLst/>
              <a:rect l="textAreaLeft" t="textAreaTop" r="textAreaRight" b="textAreaBottom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33cc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Verdana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06A6A-E800-411D-AAFD-7C5F845FD736}" type="slidenum"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image" Target="../media/image6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image" Target="../media/image18.jpeg"/><Relationship Id="rId5" Type="http://schemas.openxmlformats.org/officeDocument/2006/relationships/image" Target="../media/image19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324000" y="549360"/>
            <a:ext cx="8496000" cy="33112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6500"/>
            </a:br>
            <a:r>
              <a:rPr b="1" lang="ru-RU" sz="6500" spc="-1" strike="noStrike">
                <a:solidFill>
                  <a:srgbClr val="ffff99"/>
                </a:solidFill>
                <a:latin typeface="Verdana"/>
              </a:rPr>
              <a:t>На вкус и цвет товарищей нет</a:t>
            </a:r>
            <a:endParaRPr b="0" lang="en-US" sz="65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 type="subTitle"/>
          </p:nvPr>
        </p:nvSpPr>
        <p:spPr>
          <a:xfrm>
            <a:off x="611280" y="5444640"/>
            <a:ext cx="8208720" cy="10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Verdana"/>
              </a:rPr>
              <a:t>Разговор о правильном питании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68360" y="-657360"/>
            <a:ext cx="8244000" cy="1314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Verdana"/>
              </a:rPr>
              <a:t>Орган вкуса - язык</a:t>
            </a: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1" name="Picture 5" descr="0004-004-Organy-chuvstv"/>
          <p:cNvPicPr/>
          <p:nvPr/>
        </p:nvPicPr>
        <p:blipFill>
          <a:blip r:embed="rId1"/>
          <a:stretch/>
        </p:blipFill>
        <p:spPr>
          <a:xfrm>
            <a:off x="0" y="692280"/>
            <a:ext cx="8893080" cy="616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Verdana"/>
              </a:rPr>
              <a:t>Сладкий вкус</a:t>
            </a: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250920" y="1052640"/>
            <a:ext cx="8642160" cy="540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Picture 5" descr="apiprodukt"/>
          <p:cNvPicPr/>
          <p:nvPr/>
        </p:nvPicPr>
        <p:blipFill>
          <a:blip r:embed="rId1"/>
          <a:stretch/>
        </p:blipFill>
        <p:spPr>
          <a:xfrm>
            <a:off x="1042920" y="1268280"/>
            <a:ext cx="1927440" cy="2521080"/>
          </a:xfrm>
          <a:prstGeom prst="rect">
            <a:avLst/>
          </a:prstGeom>
          <a:ln w="0">
            <a:noFill/>
          </a:ln>
        </p:spPr>
      </p:pic>
      <p:pic>
        <p:nvPicPr>
          <p:cNvPr id="175" name="Picture 7" descr="slide0016_image016"/>
          <p:cNvPicPr/>
          <p:nvPr/>
        </p:nvPicPr>
        <p:blipFill>
          <a:blip r:embed="rId2"/>
          <a:stretch/>
        </p:blipFill>
        <p:spPr>
          <a:xfrm>
            <a:off x="5219640" y="1125360"/>
            <a:ext cx="3368880" cy="2246400"/>
          </a:xfrm>
          <a:prstGeom prst="rect">
            <a:avLst/>
          </a:prstGeom>
          <a:ln w="0">
            <a:noFill/>
          </a:ln>
        </p:spPr>
      </p:pic>
      <p:pic>
        <p:nvPicPr>
          <p:cNvPr id="176" name="Picture 15" descr="Dondurma%20071"/>
          <p:cNvPicPr/>
          <p:nvPr/>
        </p:nvPicPr>
        <p:blipFill>
          <a:blip r:embed="rId3"/>
          <a:stretch/>
        </p:blipFill>
        <p:spPr>
          <a:xfrm>
            <a:off x="5724360" y="4005360"/>
            <a:ext cx="2857680" cy="238104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9" descr="0_56bf7_7c23c1b4_XL"/>
          <p:cNvPicPr/>
          <p:nvPr/>
        </p:nvPicPr>
        <p:blipFill>
          <a:blip r:embed="rId4"/>
          <a:stretch/>
        </p:blipFill>
        <p:spPr>
          <a:xfrm>
            <a:off x="826920" y="3645000"/>
            <a:ext cx="2805120" cy="280512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21" descr="822d88bae894"/>
          <p:cNvPicPr/>
          <p:nvPr/>
        </p:nvPicPr>
        <p:blipFill>
          <a:blip r:embed="rId5"/>
          <a:stretch/>
        </p:blipFill>
        <p:spPr>
          <a:xfrm>
            <a:off x="3635280" y="3068640"/>
            <a:ext cx="2232000" cy="22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42800" y="103320"/>
            <a:ext cx="8244000" cy="877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Verdana"/>
              </a:rPr>
              <a:t>Кислый вкус</a:t>
            </a: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50560" y="1052280"/>
            <a:ext cx="8435880" cy="500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1" name="Picture 13" descr="%D0%BB%D0%B8%D0%BC%D0%BE%D0%BD1"/>
          <p:cNvPicPr/>
          <p:nvPr/>
        </p:nvPicPr>
        <p:blipFill>
          <a:blip r:embed="rId1"/>
          <a:stretch/>
        </p:blipFill>
        <p:spPr>
          <a:xfrm>
            <a:off x="611280" y="1268280"/>
            <a:ext cx="3943080" cy="265752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15" descr="b83fad66e4607dddf0b4f4521b476d6e"/>
          <p:cNvPicPr/>
          <p:nvPr/>
        </p:nvPicPr>
        <p:blipFill>
          <a:blip r:embed="rId2"/>
          <a:stretch/>
        </p:blipFill>
        <p:spPr>
          <a:xfrm>
            <a:off x="5292720" y="1341360"/>
            <a:ext cx="3160800" cy="237024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7" descr="23e5d9a42fae"/>
          <p:cNvPicPr/>
          <p:nvPr/>
        </p:nvPicPr>
        <p:blipFill>
          <a:blip r:embed="rId3"/>
          <a:stretch/>
        </p:blipFill>
        <p:spPr>
          <a:xfrm>
            <a:off x="1042920" y="4076640"/>
            <a:ext cx="2900520" cy="2368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9" descr="s766308"/>
          <p:cNvPicPr/>
          <p:nvPr/>
        </p:nvPicPr>
        <p:blipFill>
          <a:blip r:embed="rId4"/>
          <a:stretch/>
        </p:blipFill>
        <p:spPr>
          <a:xfrm>
            <a:off x="5076720" y="3828960"/>
            <a:ext cx="2862360" cy="241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88640"/>
            <a:ext cx="8244000" cy="936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Verdana"/>
              </a:rPr>
              <a:t>Соленый вкус</a:t>
            </a: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7" name="Picture 5" descr="i?id=104859331-40-72&amp;n=21"/>
          <p:cNvPicPr/>
          <p:nvPr/>
        </p:nvPicPr>
        <p:blipFill>
          <a:blip r:embed="rId1"/>
          <a:stretch/>
        </p:blipFill>
        <p:spPr>
          <a:xfrm>
            <a:off x="539640" y="1268280"/>
            <a:ext cx="3511800" cy="263844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7" descr="i?id=84645766-21-72&amp;n=21"/>
          <p:cNvPicPr/>
          <p:nvPr/>
        </p:nvPicPr>
        <p:blipFill>
          <a:blip r:embed="rId2"/>
          <a:stretch/>
        </p:blipFill>
        <p:spPr>
          <a:xfrm>
            <a:off x="4427640" y="1341360"/>
            <a:ext cx="3079800" cy="231300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9" descr="pomidory"/>
          <p:cNvPicPr/>
          <p:nvPr/>
        </p:nvPicPr>
        <p:blipFill>
          <a:blip r:embed="rId3"/>
          <a:stretch/>
        </p:blipFill>
        <p:spPr>
          <a:xfrm>
            <a:off x="1258920" y="4076640"/>
            <a:ext cx="2425680" cy="2425680"/>
          </a:xfrm>
          <a:prstGeom prst="rect">
            <a:avLst/>
          </a:prstGeom>
          <a:ln w="0">
            <a:noFill/>
          </a:ln>
        </p:spPr>
      </p:pic>
      <p:pic>
        <p:nvPicPr>
          <p:cNvPr id="190" name="Picture 11" descr="i?id=210073604-43-72&amp;n=21"/>
          <p:cNvPicPr/>
          <p:nvPr/>
        </p:nvPicPr>
        <p:blipFill>
          <a:blip r:embed="rId4"/>
          <a:stretch/>
        </p:blipFill>
        <p:spPr>
          <a:xfrm>
            <a:off x="4932360" y="3933720"/>
            <a:ext cx="3222720" cy="23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733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Verdana"/>
              </a:rPr>
              <a:t>Горький вкус</a:t>
            </a: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560" y="907920"/>
            <a:ext cx="843588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3" name="Picture 5" descr="146chesnok"/>
          <p:cNvPicPr/>
          <p:nvPr/>
        </p:nvPicPr>
        <p:blipFill>
          <a:blip r:embed="rId1"/>
          <a:stretch/>
        </p:blipFill>
        <p:spPr>
          <a:xfrm>
            <a:off x="468360" y="1413000"/>
            <a:ext cx="3178080" cy="233208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7" descr="GLU367b70_cibule8"/>
          <p:cNvPicPr/>
          <p:nvPr/>
        </p:nvPicPr>
        <p:blipFill>
          <a:blip r:embed="rId2"/>
          <a:stretch/>
        </p:blipFill>
        <p:spPr>
          <a:xfrm>
            <a:off x="5508720" y="1363680"/>
            <a:ext cx="3222360" cy="214776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9" descr="perets"/>
          <p:cNvPicPr/>
          <p:nvPr/>
        </p:nvPicPr>
        <p:blipFill>
          <a:blip r:embed="rId3"/>
          <a:stretch/>
        </p:blipFill>
        <p:spPr>
          <a:xfrm>
            <a:off x="324000" y="4421160"/>
            <a:ext cx="3600360" cy="210492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1" descr="1257401702_gortchruss2"/>
          <p:cNvPicPr/>
          <p:nvPr/>
        </p:nvPicPr>
        <p:blipFill>
          <a:blip r:embed="rId4"/>
          <a:stretch/>
        </p:blipFill>
        <p:spPr>
          <a:xfrm>
            <a:off x="3780000" y="2349360"/>
            <a:ext cx="1719000" cy="280692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3" descr="92686839_48009hren03"/>
          <p:cNvPicPr/>
          <p:nvPr/>
        </p:nvPicPr>
        <p:blipFill>
          <a:blip r:embed="rId5"/>
          <a:stretch/>
        </p:blipFill>
        <p:spPr>
          <a:xfrm>
            <a:off x="5508720" y="4184640"/>
            <a:ext cx="3294000" cy="20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99"/>
                </a:solidFill>
                <a:latin typeface="Verdana"/>
              </a:rPr>
              <a:t>На вкус и цвет</a:t>
            </a:r>
            <a:endParaRPr b="0" lang="en-US" sz="4400" spc="-1" strike="noStrike">
              <a:solidFill>
                <a:srgbClr val="ffff99"/>
              </a:solidFill>
              <a:latin typeface="Verdan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24000" y="148428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         </a:t>
            </a: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Товарищей нет</a:t>
            </a:r>
            <a:endParaRPr b="0" lang="en-US" sz="4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00" name="Picture 5" descr="kids_and_lemon_tasted_for_first_time_123_10"/>
          <p:cNvPicPr/>
          <p:nvPr/>
        </p:nvPicPr>
        <p:blipFill>
          <a:blip r:embed="rId1"/>
          <a:stretch/>
        </p:blipFill>
        <p:spPr>
          <a:xfrm>
            <a:off x="0" y="2205000"/>
            <a:ext cx="2800440" cy="374328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7" descr="0a1931f7792a29b87dfa9cc0214bd7bb"/>
          <p:cNvPicPr/>
          <p:nvPr/>
        </p:nvPicPr>
        <p:blipFill>
          <a:blip r:embed="rId2"/>
          <a:stretch/>
        </p:blipFill>
        <p:spPr>
          <a:xfrm>
            <a:off x="6524640" y="2205000"/>
            <a:ext cx="2619360" cy="388620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11" descr="poleznaya-eda"/>
          <p:cNvPicPr/>
          <p:nvPr/>
        </p:nvPicPr>
        <p:blipFill>
          <a:blip r:embed="rId3"/>
          <a:stretch/>
        </p:blipFill>
        <p:spPr>
          <a:xfrm>
            <a:off x="2700360" y="2133720"/>
            <a:ext cx="388620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5:36:18Z</dcterms:created>
  <dc:creator>Пользователь</dc:creator>
  <dc:description/>
  <dc:language>en-US</dc:language>
  <cp:lastModifiedBy>Пользователь</cp:lastModifiedBy>
  <dcterms:modified xsi:type="dcterms:W3CDTF">2020-04-15T08:00:09Z</dcterms:modified>
  <cp:revision>4</cp:revision>
  <dc:subject/>
  <dc:title>Занятие по теме  «На вкус и цвет товарищей нет»</dc:title>
</cp:coreProperties>
</file>